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5FB-CB27-4C02-99C9-76A1881D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3D1-637A-4FDE-9CE4-E49DAAAA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B7D-9D2B-4B4E-9E55-87088983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B89-9B12-4AA3-802C-60A8F5EE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994-066D-495C-8D52-300B46C3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ECB-5B39-4C96-9470-BE8B73D7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B7D-3D44-4C9C-8861-CFF3E15C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15B1-37AE-4473-94D8-293E7716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8514-25E1-45DF-898B-F063EEB1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FF01-6B4F-41D7-B6E5-56120DD5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796-756F-4FC7-903E-E4823D95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AD9-8E41-4F4C-97AE-AF793C79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4B174-3697-4303-A591-B6A20E20B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ing or ‘to’ infi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e rule for the previous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-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ak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emphasizes _______ while the bare infinitiv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a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uggests _______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ld be the grammatical rule explaining these senten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'd like to play tenn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like playing tenn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like to play tenn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e rule for the previous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ould li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followed by _______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be followed by _______ . With like, the _______ form is used to talk about enjoyment and the _______  form to talk choices and hab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ld be the grammatical rule explaining these senten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learnt typing at evening class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learnt to type when he was 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e rule for the previous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alk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ss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ubjec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study we use the _______ whereas the _______ form is used to talk about the results of the stu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36684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 I remember ........ that film when it first came out in 1990. (se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 First she told us how to get there and then she went on ........ where to go and what to do. (recommen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3 I regret ........ my old job; this one's even worse! (leave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 Oh no, I've forgotten ........ dental appointment, (cancel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 Have you ever tried ........ with yoghurt instead of cream? (mak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6 We regret ........ you that flight BA 673 has been delayed, (infor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7 Did I remember ........ lights? (switch off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61884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 She went on ........ as if nothing had happened. (ea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 I'll never forget ........ him play live for the first time. (hea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0 It was one o'clock so we stopped ........ something. (ea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1 I meant ........ you; saw yesterday, (tel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2 We can drive there in one day but it’ll mean ........ early, (get u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3 Now that I've got email I've stopped to the post office. (g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He went on ........ about his problem at work all night long. (talk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pe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would you advise a friend to do if you thought he/she was becoming a shopaholic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do you think the reason behind a shop window sign saying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hildren under 14 are not allowed to enter without an adul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ight be, and what do you think about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shopping be called a hobby? Do you like shopping? What sort of things would you like to buy if you were very rich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 you like going with other people when they are shopp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you ever seen someone shoplifting? What did you do or what would you d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difference between these sentenc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d you remember to lock the do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remember him saying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told us he'd made a million; he then went on to tell us how he lost it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went on criticising the work even though she could see we were ups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difference between these sent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tried to tell her the truth but she wouldn't lis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tried putting the aerial on the garage roof and then the TV worked a lot bet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end he stopped visiting us altogether. She stopped to talk to her neighb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difference between these sent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 no, I meant to tell you; she phoned earl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 take that job, it'll mean moving to Bruss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regret to inform you that your application has been unsuccessfu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regret saying that to her 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ld be the grammatical rule explaining these senten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don't allow running in the pool are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don't allow children under eight to use the pool without an adul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gs aren't allowed to come into the pool are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advised us to take the coastal rou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were advised not to invest in rural prope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 advised taking the motorw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te the rule for the previous sl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In active clauses, after the verb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ll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dvi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 use the _______ form if there is no o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re is an object we use the _______ form. clauses, we use the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ld be the grammatical rule explaining these senten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't want you cluttering up the house with all that stuf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't want you to clutter up the house with all that stuf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e rule for the previous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lutte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uggests we are talking about the *past/present/future, whil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clut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uggests we are talking about the *past/present/fu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choose the correct te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ld be the grammatical rule explaining these senten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aw him taking the dog for a walk yester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aw him leave the house at about 8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8:18:21Z</dcterms:created>
  <dc:creator>Paul Filippetto</dc:creator>
  <dc:description/>
  <dc:language>en-US</dc:language>
  <cp:lastModifiedBy>Paul Filippetto</cp:lastModifiedBy>
  <dcterms:modified xsi:type="dcterms:W3CDTF">2013-11-28T19:26:51Z</dcterms:modified>
  <cp:revision>17</cp:revision>
  <dc:subject/>
  <dc:title>-ing or ‘to’ infinitive</dc:title>
</cp:coreProperties>
</file>